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100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2720" cy="37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51AF-8CE5-48A3-A071-2DDC4843BD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2720" cy="37684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A8A2-7CC5-403B-94D9-37B342705D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2720" cy="37684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1B4F-27EB-49D8-AE4B-C51D22E7E7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2720" cy="37684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4AAC-81B2-4157-B7CE-76C209C51B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2720" cy="37684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9E32-27E3-4AF6-A2DA-2BEB0F69DC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2720" cy="37684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1760-17D9-4337-AD9A-242B0F0050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2720" cy="37684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7A0B-AA77-4AA2-B7DF-CF63A911C2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2720" cy="37684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BED1-52D9-4B86-8E73-6445EE0A09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64D-C55D-464B-B718-D21727A9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F93B-3269-4BE0-A84C-D5D2FDF7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50C-6897-4F84-BDD1-04C7D6AE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DE4-06AE-4E92-B1D6-7FCF7419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7A07-49CF-48FC-8D21-EB80C0FB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3EFD-F651-4158-8BC2-9963BBA0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C7E7-20EE-4CCA-B590-FBA82CEA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24AE-1C69-4906-831D-71935988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700F-6D89-4844-AADC-2D43B3D2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D39D-F943-4BF0-A841-0AE9925C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52AD-25E1-45CF-B8B4-DF8070E0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BF4-B13F-4951-8777-8837B9BE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76C1-706E-4546-A87E-87A2D553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06B6-4D9A-4001-86EE-D32218E6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F964-19EF-4643-8694-953DD1F3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6512-42FF-407F-A097-2BC8C73D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F785-5C24-4B13-A77C-F2283292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B0572-1E3D-4FD9-BAE3-006DE187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88C10-1377-489C-B44B-5D1E6FC0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0C348-B531-4B48-93C7-11E5F296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D4911-0726-4D5E-8A6C-63B949FD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701B5-5A89-40F1-ABDA-092556E6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CDB3-0BA3-49EB-A4BE-BD3324DD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F5923-AD2C-414F-99BB-BDED5EA0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D18A6-B22F-4B1B-92F5-9A4B4277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CD43B-A912-409D-B5AE-5BA3BD07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A294B-9A19-4EDA-A9D7-E0D670E7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C8518-6452-4BCB-AFE6-1C086E1F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0604A-CFE8-4C06-B4ED-BDD2CE80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5541A-43F2-4608-A759-393E7C78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F60B1-85CA-4C54-9402-C3A310EA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41723-0CC7-44D2-8ABC-017CE468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A2FF7-06A5-4582-82E5-A5EA4013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6C7-738A-4087-8B33-18D20795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F2FF0-9981-41DD-98CB-875C9EB8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6B5FC-08FF-41FA-9E1E-CE6D27CE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0EB12-463E-41D8-A2DA-E7BE2699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77CD9-CBE8-4E6C-9FA5-50226615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D985A-BD43-48C2-A275-991127B3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D6B0B-980C-4ED5-AD7F-8E772CFE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351DC-EDF5-4E8C-B9AA-F9E54474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36BDB-F1CE-48EF-91FB-7D9E8BA7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86D90-0B54-4E90-8AC4-401372C1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89618-EF02-48BD-96A6-3B30D6D7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9D77-24A4-4762-88D8-CB142840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EA4E7-2D7A-436B-966C-2D6697E9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3FF49-AE22-4201-BBBF-340E3D4E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A96E5-E06D-4038-B266-C0DB1159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C8EC9-18CB-40BD-A86E-F915CBBC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CE7AA-6D06-41CD-8BBE-8146882C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2A191-BB82-4A05-9381-BBD9FDB3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B5EFF-C218-4FE5-A81A-2920BE7E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1E4D8-3183-4171-AD4B-D5F9A3EE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83567-D8C4-4502-BA09-FBAD1BFE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CA91D-B214-43ED-9EFF-CC265A21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9E97-BFFD-4A75-9FCE-C72B02CE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360F9-FEF0-4E3F-B241-B50573D3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135E3-96DE-4931-BFAB-7BC01579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D03FA-1448-4034-B84B-D632A954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B4393-34A1-4194-8D67-64D0E5D5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93887-A464-4A10-B3BE-A5B4E6B6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7CEB0-E25D-4520-9B02-F14BE33A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36A43-CFCF-4A9F-B392-637FFDFB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31B74-68A1-4649-8170-8A1E08A4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46E80-5999-46D0-A72F-22E6A8DB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ECD0B-1162-4F2A-B1B8-8AFC3D20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CF3-8154-4F64-8732-84F2DDBA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2AA1B-8934-4827-84BF-17B77187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AB9C2-E218-4535-8C23-F1AF4933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48BEB-47E2-4E14-A153-AFADAD6E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F5EE0-EC5B-4E88-B5F2-CD6525C4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4A4DB-5135-47CB-8071-58AD4A8E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BD9A2-18B0-431F-B6F4-F6B46D75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C90A7-5E9C-428F-A7D2-785BA086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84EF7-60C7-48E8-B1B1-269F3691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34B32-7E59-48AA-AAA4-DDAC79E3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AC3F5-D411-4B8A-8274-78A6B974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E4B-0299-4B52-9E11-174B41E8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46695-364A-416E-AD3C-F00314E5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53923-7F5F-4E3D-870F-6E11AC43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AF635-A122-4C34-9B97-8827C2AA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194A0-6F61-4B6C-BA52-3FFAFAB3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ED49E-C88C-41AD-A3CD-BF78129E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12884-F5C8-4B99-BB5C-2F5A10C0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1A0C2-95B7-4D66-BDCE-F027F651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17BFF-C358-4C77-B417-AFC041E6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100BC-1EAA-43EC-AA29-089F15D1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50249-C917-4BBB-A8C0-CBF44DE9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D08-655D-4AC2-BC9A-2BC434AE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E9037-0BF9-4577-BA27-A365BAF2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3A68E-6AE3-4EA4-9DBC-FC43333B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A7930-30CB-4FD3-8E87-B3415282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BA747-C342-437E-96F5-5C98F435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09C7F-DF4A-4091-8496-1A5604E2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BC6F0-2D6E-4684-A049-91F2AB6A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79BFC-B086-4AAE-88D8-54630C8E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CBE3-1180-42CA-92E8-A442BC24C4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3208-70C1-47CA-94DE-8511DD6CCFE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1B1E-CB6A-4E3F-926C-8511ED97ED6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A522-7DCE-44C4-843F-C9432ECF68D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E295-D9A0-4201-935A-2872C0578F5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4552-85ED-4A99-8CDB-B8060651D69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01BE-AEE1-4D74-B5E1-89D983EF47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B161-DED2-4C30-A77F-1ADD83C0412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601200" cy="156708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3" descr="i.jpg"/>
          <p:cNvPicPr/>
          <p:nvPr/>
        </p:nvPicPr>
        <p:blipFill>
          <a:blip r:embed="rId2"/>
          <a:stretch/>
        </p:blipFill>
        <p:spPr>
          <a:xfrm>
            <a:off x="324000" y="2060640"/>
            <a:ext cx="496872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Содержимое 3" descr=""/>
          <p:cNvPicPr/>
          <p:nvPr/>
        </p:nvPicPr>
        <p:blipFill>
          <a:blip r:embed="rId1"/>
          <a:stretch/>
        </p:blipFill>
        <p:spPr>
          <a:xfrm>
            <a:off x="450720" y="1163520"/>
            <a:ext cx="82425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298440" y="328680"/>
            <a:ext cx="8394840" cy="454824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3" descr="iCAWLBUXK.jpg"/>
          <p:cNvPicPr/>
          <p:nvPr/>
        </p:nvPicPr>
        <p:blipFill>
          <a:blip r:embed="rId2"/>
          <a:stretch/>
        </p:blipFill>
        <p:spPr>
          <a:xfrm>
            <a:off x="5148360" y="3933720"/>
            <a:ext cx="3527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929040" y="928440"/>
            <a:ext cx="52149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T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еорема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Медианы треугольника пересекаются в одной точке, которая делит каждую медиану в отношении 2:1, считая от вершин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ано: </a:t>
            </a:r>
            <a:r>
              <a:rPr b="1" lang="el-GR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ABC; 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, 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, 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медианы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 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, AO: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=BO: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=CO: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=2:1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оказательство: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1=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3=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4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    </a:t>
            </a:r>
            <a:r>
              <a:rPr b="1" lang="el-GR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 ABO ~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. AB: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=2→AO: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=BO: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=2:1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усть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=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тогда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6,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∠7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8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</a:t>
            </a:r>
            <a:r>
              <a:rPr b="1" lang="el-GR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 CB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 ~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. CB: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=2→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: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=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: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=2:1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Из всего этого следует, что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O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совпадает с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а значи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 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, AO: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=BO: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=CO: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=2:1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476280" y="-30240"/>
            <a:ext cx="7991280" cy="1309680"/>
          </a:xfrm>
          <a:prstGeom prst="rect">
            <a:avLst/>
          </a:prstGeom>
          <a:ln w="0">
            <a:noFill/>
          </a:ln>
        </p:spPr>
      </p:pic>
      <p:grpSp>
        <p:nvGrpSpPr>
          <p:cNvPr id="383" name="Group 41"/>
          <p:cNvGrpSpPr/>
          <p:nvPr/>
        </p:nvGrpSpPr>
        <p:grpSpPr>
          <a:xfrm>
            <a:off x="0" y="1214280"/>
            <a:ext cx="3999600" cy="4792680"/>
            <a:chOff x="0" y="1214280"/>
            <a:chExt cx="3999600" cy="4792680"/>
          </a:xfrm>
        </p:grpSpPr>
        <p:sp>
          <p:nvSpPr>
            <p:cNvPr id="384" name="Text Box 32"/>
            <p:cNvSpPr/>
            <p:nvPr/>
          </p:nvSpPr>
          <p:spPr>
            <a:xfrm>
              <a:off x="0" y="5180040"/>
              <a:ext cx="29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cc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Group 40"/>
            <p:cNvGrpSpPr/>
            <p:nvPr/>
          </p:nvGrpSpPr>
          <p:grpSpPr>
            <a:xfrm>
              <a:off x="203400" y="1214280"/>
              <a:ext cx="3796200" cy="4792680"/>
              <a:chOff x="203400" y="1214280"/>
              <a:chExt cx="3796200" cy="4792680"/>
            </a:xfrm>
          </p:grpSpPr>
          <p:sp>
            <p:nvSpPr>
              <p:cNvPr id="386" name="Line 4"/>
              <p:cNvSpPr/>
              <p:nvPr/>
            </p:nvSpPr>
            <p:spPr>
              <a:xfrm flipV="1">
                <a:off x="203400" y="1654560"/>
                <a:ext cx="2333520" cy="359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5"/>
              <p:cNvSpPr/>
              <p:nvPr/>
            </p:nvSpPr>
            <p:spPr>
              <a:xfrm>
                <a:off x="203400" y="5254560"/>
                <a:ext cx="350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8"/>
              <p:cNvSpPr/>
              <p:nvPr/>
            </p:nvSpPr>
            <p:spPr>
              <a:xfrm flipV="1">
                <a:off x="203400" y="3638160"/>
                <a:ext cx="2981160" cy="161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Group 39"/>
              <p:cNvGrpSpPr/>
              <p:nvPr/>
            </p:nvGrpSpPr>
            <p:grpSpPr>
              <a:xfrm>
                <a:off x="554760" y="1214280"/>
                <a:ext cx="3444840" cy="4792680"/>
                <a:chOff x="554760" y="1214280"/>
                <a:chExt cx="3444840" cy="4792680"/>
              </a:xfrm>
            </p:grpSpPr>
            <p:sp>
              <p:nvSpPr>
                <p:cNvPr id="390" name="Line 6"/>
                <p:cNvSpPr/>
                <p:nvPr/>
              </p:nvSpPr>
              <p:spPr>
                <a:xfrm>
                  <a:off x="2540520" y="1654560"/>
                  <a:ext cx="1168200" cy="359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Line 7"/>
                <p:cNvSpPr/>
                <p:nvPr/>
              </p:nvSpPr>
              <p:spPr>
                <a:xfrm flipH="1">
                  <a:off x="1897920" y="1654560"/>
                  <a:ext cx="642240" cy="359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Line 9"/>
                <p:cNvSpPr/>
                <p:nvPr/>
              </p:nvSpPr>
              <p:spPr>
                <a:xfrm flipH="1" flipV="1">
                  <a:off x="1256040" y="3638160"/>
                  <a:ext cx="2451960" cy="161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Line 10"/>
                <p:cNvSpPr/>
                <p:nvPr/>
              </p:nvSpPr>
              <p:spPr>
                <a:xfrm flipH="1">
                  <a:off x="1079640" y="5106600"/>
                  <a:ext cx="56520" cy="22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Line 11"/>
                <p:cNvSpPr/>
                <p:nvPr/>
              </p:nvSpPr>
              <p:spPr>
                <a:xfrm flipH="1">
                  <a:off x="2773440" y="5106600"/>
                  <a:ext cx="55080" cy="22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Line 12"/>
                <p:cNvSpPr/>
                <p:nvPr/>
              </p:nvSpPr>
              <p:spPr>
                <a:xfrm flipH="1">
                  <a:off x="2773440" y="2535480"/>
                  <a:ext cx="174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Line 13"/>
                <p:cNvSpPr/>
                <p:nvPr/>
              </p:nvSpPr>
              <p:spPr>
                <a:xfrm flipH="1">
                  <a:off x="2715480" y="2390040"/>
                  <a:ext cx="176400" cy="80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Line 14"/>
                <p:cNvSpPr/>
                <p:nvPr/>
              </p:nvSpPr>
              <p:spPr>
                <a:xfrm flipH="1">
                  <a:off x="2832840" y="2682720"/>
                  <a:ext cx="174960" cy="7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Line 15"/>
                <p:cNvSpPr/>
                <p:nvPr/>
              </p:nvSpPr>
              <p:spPr>
                <a:xfrm flipH="1">
                  <a:off x="3241080" y="4078440"/>
                  <a:ext cx="176400" cy="7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Line 16"/>
                <p:cNvSpPr/>
                <p:nvPr/>
              </p:nvSpPr>
              <p:spPr>
                <a:xfrm flipH="1">
                  <a:off x="3299040" y="4225680"/>
                  <a:ext cx="176400" cy="8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Line 17"/>
                <p:cNvSpPr/>
                <p:nvPr/>
              </p:nvSpPr>
              <p:spPr>
                <a:xfrm flipH="1">
                  <a:off x="3358080" y="4371480"/>
                  <a:ext cx="174600" cy="8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Line 18"/>
                <p:cNvSpPr/>
                <p:nvPr/>
              </p:nvSpPr>
              <p:spPr>
                <a:xfrm>
                  <a:off x="1256400" y="3638160"/>
                  <a:ext cx="192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Line 19"/>
                <p:cNvSpPr/>
                <p:nvPr/>
              </p:nvSpPr>
              <p:spPr>
                <a:xfrm>
                  <a:off x="1256400" y="3638160"/>
                  <a:ext cx="641160" cy="161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Line 20"/>
                <p:cNvSpPr/>
                <p:nvPr/>
              </p:nvSpPr>
              <p:spPr>
                <a:xfrm>
                  <a:off x="616320" y="4371480"/>
                  <a:ext cx="176400" cy="14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Line 21"/>
                <p:cNvSpPr/>
                <p:nvPr/>
              </p:nvSpPr>
              <p:spPr>
                <a:xfrm>
                  <a:off x="729360" y="4151520"/>
                  <a:ext cx="17640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Line 22"/>
                <p:cNvSpPr/>
                <p:nvPr/>
              </p:nvSpPr>
              <p:spPr>
                <a:xfrm>
                  <a:off x="1725120" y="2682720"/>
                  <a:ext cx="177840" cy="14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Line 23"/>
                <p:cNvSpPr/>
                <p:nvPr/>
              </p:nvSpPr>
              <p:spPr>
                <a:xfrm>
                  <a:off x="1841040" y="2535480"/>
                  <a:ext cx="177480" cy="14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Text Box 24"/>
                <p:cNvSpPr/>
                <p:nvPr/>
              </p:nvSpPr>
              <p:spPr>
                <a:xfrm>
                  <a:off x="554760" y="4959360"/>
                  <a:ext cx="29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9900cc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Text Box 25"/>
                <p:cNvSpPr/>
                <p:nvPr/>
              </p:nvSpPr>
              <p:spPr>
                <a:xfrm>
                  <a:off x="2660040" y="3565080"/>
                  <a:ext cx="28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9900cc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Text Box 26"/>
                <p:cNvSpPr/>
                <p:nvPr/>
              </p:nvSpPr>
              <p:spPr>
                <a:xfrm>
                  <a:off x="1547280" y="3565080"/>
                  <a:ext cx="29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9900cc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Text Box 27"/>
                <p:cNvSpPr/>
                <p:nvPr/>
              </p:nvSpPr>
              <p:spPr>
                <a:xfrm>
                  <a:off x="2423160" y="1874880"/>
                  <a:ext cx="29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9900cc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Text Box 28"/>
                <p:cNvSpPr/>
                <p:nvPr/>
              </p:nvSpPr>
              <p:spPr>
                <a:xfrm>
                  <a:off x="1725120" y="4739040"/>
                  <a:ext cx="293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9900cc"/>
                      </a:solidFill>
                      <a:latin typeface="Times New Roman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Text Box 29"/>
                <p:cNvSpPr/>
                <p:nvPr/>
              </p:nvSpPr>
              <p:spPr>
                <a:xfrm>
                  <a:off x="3417480" y="4813560"/>
                  <a:ext cx="288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9900cc"/>
                      </a:solidFill>
                      <a:latin typeface="Times New Roman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Text Box 30"/>
                <p:cNvSpPr/>
                <p:nvPr/>
              </p:nvSpPr>
              <p:spPr>
                <a:xfrm>
                  <a:off x="1372320" y="3785400"/>
                  <a:ext cx="29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9900cc"/>
                      </a:solidFill>
                      <a:latin typeface="Times New Roman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Text Box 31"/>
                <p:cNvSpPr/>
                <p:nvPr/>
              </p:nvSpPr>
              <p:spPr>
                <a:xfrm>
                  <a:off x="3124080" y="4959360"/>
                  <a:ext cx="293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9900cc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Text Box 33"/>
                <p:cNvSpPr/>
                <p:nvPr/>
              </p:nvSpPr>
              <p:spPr>
                <a:xfrm>
                  <a:off x="2366640" y="1214280"/>
                  <a:ext cx="293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cc"/>
                      </a:solidFill>
                      <a:latin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Text Box 34"/>
                <p:cNvSpPr/>
                <p:nvPr/>
              </p:nvSpPr>
              <p:spPr>
                <a:xfrm>
                  <a:off x="3708720" y="5106600"/>
                  <a:ext cx="29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cc"/>
                      </a:solidFill>
                      <a:latin typeface="Times New Roman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Text Box 35"/>
                <p:cNvSpPr/>
                <p:nvPr/>
              </p:nvSpPr>
              <p:spPr>
                <a:xfrm>
                  <a:off x="3241080" y="3343320"/>
                  <a:ext cx="4647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cc"/>
                      </a:solidFill>
                      <a:latin typeface="Times New Roman"/>
                    </a:rPr>
                    <a:t>A</a:t>
                  </a:r>
                  <a:r>
                    <a:rPr b="1" lang="en-US" sz="1800" spc="-1" strike="noStrike" baseline="-25000">
                      <a:solidFill>
                        <a:srgbClr val="9900cc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Text Box 36"/>
                <p:cNvSpPr/>
                <p:nvPr/>
              </p:nvSpPr>
              <p:spPr>
                <a:xfrm>
                  <a:off x="848160" y="3343320"/>
                  <a:ext cx="35280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cc"/>
                      </a:solidFill>
                      <a:latin typeface="Times New Roman"/>
                    </a:rPr>
                    <a:t>B</a:t>
                  </a:r>
                  <a:r>
                    <a:rPr b="1" lang="en-US" sz="1800" spc="-1" strike="noStrike" baseline="-25000">
                      <a:solidFill>
                        <a:srgbClr val="9900cc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Text Box 37"/>
                <p:cNvSpPr/>
                <p:nvPr/>
              </p:nvSpPr>
              <p:spPr>
                <a:xfrm>
                  <a:off x="1780560" y="5326920"/>
                  <a:ext cx="40932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cc"/>
                      </a:solidFill>
                      <a:latin typeface="Times New Roman"/>
                    </a:rPr>
                    <a:t>C</a:t>
                  </a:r>
                  <a:r>
                    <a:rPr b="1" lang="en-US" sz="1800" spc="-1" strike="noStrike" baseline="-25000">
                      <a:solidFill>
                        <a:srgbClr val="9900cc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Text Box 38"/>
                <p:cNvSpPr/>
                <p:nvPr/>
              </p:nvSpPr>
              <p:spPr>
                <a:xfrm>
                  <a:off x="2014920" y="4225680"/>
                  <a:ext cx="288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cc"/>
                      </a:solidFill>
                      <a:latin typeface="Times New Roman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348000" y="907920"/>
            <a:ext cx="579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Теорема. 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Каждая точка биссектрисы неразвернутого угла равноудалена от его сторон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ано: </a:t>
            </a:r>
            <a:r>
              <a:rPr b="1" lang="ru-RU" sz="2000" spc="-1" strike="noStrike">
                <a:solidFill>
                  <a:srgbClr val="000000"/>
                </a:solidFill>
                <a:latin typeface="SimSun"/>
                <a:ea typeface="SimSun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AC; AM –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иссектриса (</a:t>
            </a:r>
            <a:r>
              <a:rPr b="1" lang="ru-RU" sz="2000" spc="-1" strike="noStrike">
                <a:solidFill>
                  <a:srgbClr val="000000"/>
                </a:solidFill>
                <a:latin typeface="SimSun"/>
                <a:ea typeface="SimSun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1=</a:t>
            </a:r>
            <a:r>
              <a:rPr b="1" lang="ru-RU" sz="2000" spc="-1" strike="noStrike">
                <a:solidFill>
                  <a:srgbClr val="000000"/>
                </a:solidFill>
                <a:latin typeface="SimSun"/>
                <a:ea typeface="SimSun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KM-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ерпендикуляр к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B; ML-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ерпендикуляр к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C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KM=KL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оказательство: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M –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общая гипотенуза, </a:t>
            </a:r>
            <a:r>
              <a:rPr b="1" lang="ru-RU" sz="2000" spc="-1" strike="noStrike">
                <a:solidFill>
                  <a:srgbClr val="000000"/>
                </a:solidFill>
                <a:latin typeface="SimSun"/>
                <a:ea typeface="SimSun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1=</a:t>
            </a:r>
            <a:r>
              <a:rPr b="1" lang="ru-RU" sz="2000" spc="-1" strike="noStrike">
                <a:solidFill>
                  <a:srgbClr val="000000"/>
                </a:solidFill>
                <a:latin typeface="SimSun"/>
                <a:ea typeface="SimSun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2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AKM=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LM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 гипотенузе и острому углу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KM=KL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T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еорема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Каждая точка, лежащая внутри неразвернутого угла и равноудаленная от его сторон, лежит на биссектрисе этого угл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ано: </a:t>
            </a:r>
            <a:r>
              <a:rPr b="1" lang="ru-RU" sz="2000" spc="-1" strike="noStrike">
                <a:solidFill>
                  <a:srgbClr val="000000"/>
                </a:solidFill>
                <a:latin typeface="SimSun"/>
                <a:ea typeface="SimSun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AC; KM-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ерпендикуляр к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B; ML-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ерпендикуляр к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C; KM=KL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оказать:</a:t>
            </a: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M –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иссектриса </a:t>
            </a:r>
            <a:r>
              <a:rPr b="1" lang="ru-RU" sz="2000" spc="-1" strike="noStrike">
                <a:solidFill>
                  <a:srgbClr val="000000"/>
                </a:solidFill>
                <a:latin typeface="SimSun"/>
                <a:ea typeface="SimSun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AC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оказательство:</a:t>
            </a: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M –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общая гипотенуза,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KM=KL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AKM=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LM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 гипотенузе и катету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</a:t>
            </a:r>
            <a:r>
              <a:rPr b="1" lang="ru-RU" sz="2000" spc="-1" strike="noStrike">
                <a:solidFill>
                  <a:srgbClr val="000000"/>
                </a:solidFill>
                <a:latin typeface="SimSun"/>
                <a:ea typeface="SimSun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1=</a:t>
            </a:r>
            <a:r>
              <a:rPr b="1" lang="ru-RU" sz="2000" spc="-1" strike="noStrike">
                <a:solidFill>
                  <a:srgbClr val="000000"/>
                </a:solidFill>
                <a:latin typeface="SimSun"/>
                <a:ea typeface="SimSun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2, то есть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M –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иссектриса </a:t>
            </a:r>
            <a:r>
              <a:rPr b="1" lang="ru-RU" sz="2000" spc="-1" strike="noStrike">
                <a:solidFill>
                  <a:srgbClr val="000000"/>
                </a:solidFill>
                <a:latin typeface="SimSun"/>
                <a:ea typeface="SimSun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AC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38120" y="-6480"/>
            <a:ext cx="8029440" cy="1158840"/>
          </a:xfrm>
          <a:prstGeom prst="rect">
            <a:avLst/>
          </a:prstGeom>
          <a:ln w="0">
            <a:noFill/>
          </a:ln>
        </p:spPr>
      </p:pic>
      <p:sp>
        <p:nvSpPr>
          <p:cNvPr id="423" name="Line 18"/>
          <p:cNvSpPr/>
          <p:nvPr/>
        </p:nvSpPr>
        <p:spPr>
          <a:xfrm>
            <a:off x="971640" y="342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9"/>
          <p:cNvSpPr/>
          <p:nvPr/>
        </p:nvSpPr>
        <p:spPr>
          <a:xfrm flipV="1">
            <a:off x="971640" y="1700280"/>
            <a:ext cx="172872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20"/>
          <p:cNvSpPr/>
          <p:nvPr/>
        </p:nvSpPr>
        <p:spPr>
          <a:xfrm>
            <a:off x="971640" y="3429000"/>
            <a:ext cx="180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1"/>
          <p:cNvSpPr/>
          <p:nvPr/>
        </p:nvSpPr>
        <p:spPr>
          <a:xfrm flipH="1">
            <a:off x="1692000" y="3429000"/>
            <a:ext cx="7189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23"/>
          <p:cNvSpPr/>
          <p:nvPr/>
        </p:nvSpPr>
        <p:spPr>
          <a:xfrm flipH="1" flipV="1">
            <a:off x="1692000" y="2708280"/>
            <a:ext cx="7189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27"/>
          <p:cNvSpPr/>
          <p:nvPr/>
        </p:nvSpPr>
        <p:spPr>
          <a:xfrm>
            <a:off x="53964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8"/>
          <p:cNvSpPr/>
          <p:nvPr/>
        </p:nvSpPr>
        <p:spPr>
          <a:xfrm>
            <a:off x="2124000" y="134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9"/>
          <p:cNvSpPr/>
          <p:nvPr/>
        </p:nvSpPr>
        <p:spPr>
          <a:xfrm>
            <a:off x="205092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30"/>
          <p:cNvSpPr/>
          <p:nvPr/>
        </p:nvSpPr>
        <p:spPr>
          <a:xfrm>
            <a:off x="1258920" y="2133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31"/>
          <p:cNvSpPr/>
          <p:nvPr/>
        </p:nvSpPr>
        <p:spPr>
          <a:xfrm>
            <a:off x="1403280" y="4292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2"/>
          <p:cNvSpPr/>
          <p:nvPr/>
        </p:nvSpPr>
        <p:spPr>
          <a:xfrm>
            <a:off x="2340000" y="342900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3"/>
          <p:cNvSpPr/>
          <p:nvPr/>
        </p:nvSpPr>
        <p:spPr>
          <a:xfrm>
            <a:off x="2268360" y="342900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34"/>
          <p:cNvSpPr/>
          <p:nvPr/>
        </p:nvSpPr>
        <p:spPr>
          <a:xfrm>
            <a:off x="118728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35"/>
          <p:cNvSpPr/>
          <p:nvPr/>
        </p:nvSpPr>
        <p:spPr>
          <a:xfrm flipH="1">
            <a:off x="1186920" y="342900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37"/>
          <p:cNvSpPr/>
          <p:nvPr/>
        </p:nvSpPr>
        <p:spPr>
          <a:xfrm>
            <a:off x="1187280" y="3213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38"/>
          <p:cNvSpPr/>
          <p:nvPr/>
        </p:nvSpPr>
        <p:spPr>
          <a:xfrm>
            <a:off x="1547640" y="2852640"/>
            <a:ext cx="14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39"/>
          <p:cNvSpPr/>
          <p:nvPr/>
        </p:nvSpPr>
        <p:spPr>
          <a:xfrm flipV="1">
            <a:off x="1692360" y="2852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40"/>
          <p:cNvSpPr/>
          <p:nvPr/>
        </p:nvSpPr>
        <p:spPr>
          <a:xfrm flipV="1">
            <a:off x="1547640" y="3860640"/>
            <a:ext cx="14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41"/>
          <p:cNvSpPr/>
          <p:nvPr/>
        </p:nvSpPr>
        <p:spPr>
          <a:xfrm>
            <a:off x="1692360" y="3860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42"/>
          <p:cNvSpPr/>
          <p:nvPr/>
        </p:nvSpPr>
        <p:spPr>
          <a:xfrm>
            <a:off x="1332000" y="3068640"/>
            <a:ext cx="21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3"/>
          <p:cNvSpPr/>
          <p:nvPr/>
        </p:nvSpPr>
        <p:spPr>
          <a:xfrm>
            <a:off x="1187280" y="3032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44"/>
          <p:cNvSpPr/>
          <p:nvPr/>
        </p:nvSpPr>
        <p:spPr>
          <a:xfrm>
            <a:off x="1187280" y="3429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268000" y="907920"/>
            <a:ext cx="68756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O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пределение. </a:t>
            </a:r>
            <a:r>
              <a:rPr b="1" i="1" lang="ru-RU" sz="1800" spc="-1" strike="noStrike">
                <a:solidFill>
                  <a:srgbClr val="000000"/>
                </a:solidFill>
                <a:latin typeface="Lucida Sans Unicode"/>
              </a:rPr>
              <a:t>Серединный перпендикуляр-прямая, проходящая через середину отрезка и перпендикулярная к нему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T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еорема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Lucida Sans Unicode"/>
              </a:rPr>
              <a:t>Каждая точка серединного перпендикуляра к отрезку равноудалена от концов этого отрезк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Lucida Sans Unicode"/>
              </a:rPr>
              <a:t>Дано: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O-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середина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AB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m–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серединный перпендикуляр к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B, M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ринадлежит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Lucida Sans Unicode"/>
              </a:rPr>
              <a:t>Доказать:</a:t>
            </a:r>
            <a:r>
              <a:rPr b="1" i="1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M=MB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Lucida Sans Unicode"/>
              </a:rPr>
              <a:t>Доказательство: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1)Если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совпадает с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O,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то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M=MB=AO=BO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2)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O=OB –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катеты,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O –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общий катет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AMO=</a:t>
            </a:r>
            <a:r>
              <a:rPr b="1" lang="el-GR" sz="18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BMO-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по двум катетам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M=MB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T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еорема. </a:t>
            </a:r>
            <a:r>
              <a:rPr b="1" i="1" lang="ru-RU" sz="1800" spc="-1" strike="noStrike">
                <a:solidFill>
                  <a:srgbClr val="000000"/>
                </a:solidFill>
                <a:latin typeface="Lucida Sans Unicode"/>
              </a:rPr>
              <a:t>Каждая точка, равноудаленная от концов отрезка, лежит на серединном перпендикуляре к нему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Lucida Sans Unicode"/>
              </a:rPr>
              <a:t>Дано: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O-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середина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AB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m–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серединный перпендикуляр к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B, AM=MB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Lucida Sans Unicode"/>
              </a:rPr>
              <a:t>Доказать: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ринадлежит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Lucida Sans Unicode"/>
              </a:rPr>
              <a:t>Доказательство: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1)Если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лежит на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AB,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то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M=MB=AO=BO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, и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принадлежит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m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2)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M=MB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</a:t>
            </a:r>
            <a:r>
              <a:rPr b="1" lang="el-GR" sz="18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AMB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равнобедренный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O-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медиана и высота </a:t>
            </a:r>
            <a:r>
              <a:rPr b="1" lang="el-GR" sz="18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AMB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O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совпадает с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m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и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ринадлежит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-176040" y="-60480"/>
            <a:ext cx="93265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447" name="Group 32"/>
          <p:cNvGrpSpPr/>
          <p:nvPr/>
        </p:nvGrpSpPr>
        <p:grpSpPr>
          <a:xfrm>
            <a:off x="0" y="836640"/>
            <a:ext cx="2376360" cy="6021000"/>
            <a:chOff x="0" y="836640"/>
            <a:chExt cx="2376360" cy="6021000"/>
          </a:xfrm>
        </p:grpSpPr>
        <p:sp>
          <p:nvSpPr>
            <p:cNvPr id="448" name="Line 4"/>
            <p:cNvSpPr/>
            <p:nvPr/>
          </p:nvSpPr>
          <p:spPr>
            <a:xfrm>
              <a:off x="1224000" y="836640"/>
              <a:ext cx="0" cy="244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5"/>
            <p:cNvSpPr/>
            <p:nvPr/>
          </p:nvSpPr>
          <p:spPr>
            <a:xfrm>
              <a:off x="503280" y="287064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6"/>
            <p:cNvSpPr/>
            <p:nvPr/>
          </p:nvSpPr>
          <p:spPr>
            <a:xfrm flipH="1">
              <a:off x="863280" y="2707560"/>
              <a:ext cx="7308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 flipH="1">
              <a:off x="1510920" y="2707560"/>
              <a:ext cx="7308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 flipH="1">
              <a:off x="503280" y="1163160"/>
              <a:ext cx="720720" cy="170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1224000" y="1163160"/>
              <a:ext cx="718920" cy="170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10"/>
            <p:cNvSpPr/>
            <p:nvPr/>
          </p:nvSpPr>
          <p:spPr>
            <a:xfrm>
              <a:off x="1224000" y="27075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11"/>
            <p:cNvSpPr/>
            <p:nvPr/>
          </p:nvSpPr>
          <p:spPr>
            <a:xfrm>
              <a:off x="1366920" y="2707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12"/>
            <p:cNvSpPr/>
            <p:nvPr/>
          </p:nvSpPr>
          <p:spPr>
            <a:xfrm>
              <a:off x="1224000" y="3683160"/>
              <a:ext cx="0" cy="31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13"/>
            <p:cNvSpPr/>
            <p:nvPr/>
          </p:nvSpPr>
          <p:spPr>
            <a:xfrm>
              <a:off x="503280" y="571680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16"/>
            <p:cNvSpPr/>
            <p:nvPr/>
          </p:nvSpPr>
          <p:spPr>
            <a:xfrm flipH="1">
              <a:off x="503280" y="4009320"/>
              <a:ext cx="720720" cy="170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1224000" y="4009320"/>
              <a:ext cx="718920" cy="170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20"/>
            <p:cNvSpPr/>
            <p:nvPr/>
          </p:nvSpPr>
          <p:spPr>
            <a:xfrm flipH="1">
              <a:off x="1510920" y="4823640"/>
              <a:ext cx="14436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21"/>
            <p:cNvSpPr/>
            <p:nvPr/>
          </p:nvSpPr>
          <p:spPr>
            <a:xfrm>
              <a:off x="790560" y="4823640"/>
              <a:ext cx="14436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22"/>
            <p:cNvSpPr/>
            <p:nvPr/>
          </p:nvSpPr>
          <p:spPr>
            <a:xfrm>
              <a:off x="1295280" y="2953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Text Box 23"/>
            <p:cNvSpPr/>
            <p:nvPr/>
          </p:nvSpPr>
          <p:spPr>
            <a:xfrm>
              <a:off x="2016000" y="2545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Text Box 24"/>
            <p:cNvSpPr/>
            <p:nvPr/>
          </p:nvSpPr>
          <p:spPr>
            <a:xfrm>
              <a:off x="0" y="2545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718920" y="83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26"/>
            <p:cNvSpPr/>
            <p:nvPr/>
          </p:nvSpPr>
          <p:spPr>
            <a:xfrm>
              <a:off x="790560" y="30193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Text Box 27"/>
            <p:cNvSpPr/>
            <p:nvPr/>
          </p:nvSpPr>
          <p:spPr>
            <a:xfrm>
              <a:off x="1224000" y="5636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Text Box 28"/>
            <p:cNvSpPr/>
            <p:nvPr/>
          </p:nvSpPr>
          <p:spPr>
            <a:xfrm>
              <a:off x="1871640" y="5636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29"/>
            <p:cNvSpPr/>
            <p:nvPr/>
          </p:nvSpPr>
          <p:spPr>
            <a:xfrm>
              <a:off x="142920" y="5555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Text Box 30"/>
            <p:cNvSpPr/>
            <p:nvPr/>
          </p:nvSpPr>
          <p:spPr>
            <a:xfrm>
              <a:off x="1295280" y="3765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Text Box 31"/>
            <p:cNvSpPr/>
            <p:nvPr/>
          </p:nvSpPr>
          <p:spPr>
            <a:xfrm>
              <a:off x="1224000" y="63698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85" descr="21"/>
          <p:cNvPicPr/>
          <p:nvPr/>
        </p:nvPicPr>
        <p:blipFill>
          <a:blip r:embed="rId1"/>
          <a:stretch/>
        </p:blipFill>
        <p:spPr>
          <a:xfrm>
            <a:off x="0" y="1268280"/>
            <a:ext cx="4321080" cy="3781440"/>
          </a:xfrm>
          <a:prstGeom prst="rect">
            <a:avLst/>
          </a:prstGeom>
          <a:ln w="0">
            <a:noFill/>
          </a:ln>
        </p:spPr>
      </p:pic>
      <p:pic>
        <p:nvPicPr>
          <p:cNvPr id="473" name="Rectangle 2" descr=""/>
          <p:cNvPicPr/>
          <p:nvPr/>
        </p:nvPicPr>
        <p:blipFill>
          <a:blip r:embed="rId2"/>
          <a:stretch/>
        </p:blipFill>
        <p:spPr>
          <a:xfrm>
            <a:off x="-208080" y="-6480"/>
            <a:ext cx="9504360" cy="115884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4356000" y="1196640"/>
            <a:ext cx="4788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T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еорем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Биссектрисы треугольника пересекаются в одной точк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ано: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BC, 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, 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, 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иссектрисы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BC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= 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оказательство: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усть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= O,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тогда если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OK, OM, OL –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ерпендикуляры из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O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 сторонам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BC,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то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OK=OM, OK=OL –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 свойству биссектрисы неразвернутого угла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OL=OM → O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равноудалена от сторон угла АСВ, и значит, лежит на биссектрисе СС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этого угл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     →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= O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21"/>
          <p:cNvPicPr/>
          <p:nvPr/>
        </p:nvPicPr>
        <p:blipFill>
          <a:blip r:embed="rId1"/>
          <a:stretch/>
        </p:blipFill>
        <p:spPr>
          <a:xfrm>
            <a:off x="0" y="1319040"/>
            <a:ext cx="3541680" cy="3753000"/>
          </a:xfrm>
          <a:prstGeom prst="rect">
            <a:avLst/>
          </a:prstGeom>
          <a:ln w="0">
            <a:noFill/>
          </a:ln>
        </p:spPr>
      </p:pic>
      <p:pic>
        <p:nvPicPr>
          <p:cNvPr id="476" name="Rectangle 5" descr=""/>
          <p:cNvPicPr/>
          <p:nvPr/>
        </p:nvPicPr>
        <p:blipFill>
          <a:blip r:embed="rId2"/>
          <a:stretch/>
        </p:blipFill>
        <p:spPr>
          <a:xfrm>
            <a:off x="-152280" y="66600"/>
            <a:ext cx="9302760" cy="10857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3571920" y="1267920"/>
            <a:ext cx="5572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T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еорема.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Lucida Sans Unicode"/>
              </a:rPr>
              <a:t>Серединные перпендикуляры к сторонам треугольника пересекаются в одной точке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Lucida Sans Unicode"/>
              </a:rPr>
              <a:t>Дано:</a:t>
            </a:r>
            <a:r>
              <a:rPr b="1" i="1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l-GR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ABC, m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-серединный перпендикуляр к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AB, n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-серединный перпендикуляр к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BC, p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-серединный перпендикуляр к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AC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Lucida Sans Unicode"/>
              </a:rPr>
              <a:t>Доказать: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en-US" sz="19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1" lang="en-US" sz="19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p = O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Lucida Sans Unicode"/>
              </a:rPr>
              <a:t>Доказательство:</a:t>
            </a:r>
            <a:r>
              <a:rPr b="1" i="1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en-US" sz="19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n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O,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т.к. если предположить, что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 параллельна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n,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то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 перпендикулярна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BC,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и через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B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проходят 2 прямые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AB, BC,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перпендикулярные к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m,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чего не может быть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По свойству серединного перпендикуляра к отрезку,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OA=OB, OB=OC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OA=OC →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O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лежит на серединном перпендикуляре к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AC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т.е. на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en-US" sz="19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1" lang="en-US" sz="19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p=O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4" descr="21"/>
          <p:cNvPicPr/>
          <p:nvPr/>
        </p:nvPicPr>
        <p:blipFill>
          <a:blip r:embed="rId1"/>
          <a:stretch/>
        </p:blipFill>
        <p:spPr>
          <a:xfrm>
            <a:off x="0" y="1916280"/>
            <a:ext cx="3571920" cy="3528720"/>
          </a:xfrm>
          <a:prstGeom prst="rect">
            <a:avLst/>
          </a:prstGeom>
          <a:ln w="0">
            <a:noFill/>
          </a:ln>
        </p:spPr>
      </p:pic>
      <p:pic>
        <p:nvPicPr>
          <p:cNvPr id="479" name="Rectangle 5" descr=""/>
          <p:cNvPicPr/>
          <p:nvPr/>
        </p:nvPicPr>
        <p:blipFill>
          <a:blip r:embed="rId2"/>
          <a:stretch/>
        </p:blipFill>
        <p:spPr>
          <a:xfrm>
            <a:off x="476280" y="-133200"/>
            <a:ext cx="7991280" cy="13096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3571920" y="856800"/>
            <a:ext cx="5572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T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еорема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Прямые, на которых лежат высоты треугольника, пересекаются в одной точк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ано: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BC, 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, 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, 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ысоты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BC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оказать:</a:t>
            </a: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= O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оказательство:</a:t>
            </a: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роведем через каждую вершину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BC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рямую, параллельную противоположной стороне. Получим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=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,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=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,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=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и по построению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, 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, 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 перпендикуляры к сторонам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, 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, 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 серединные перпендикуляры к сторонам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= O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Сегодня на уроке мы исследовали четыре замечательных точек треугольника. Доказали свойство биссектрисы угла, серединного перпендикуляра, а так же доказали теоремы о высотах и медианах в треугольнике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сюша</dc:creator>
  <dc:description/>
  <dc:language>en-US</dc:language>
  <cp:lastModifiedBy>Ксюша</cp:lastModifiedBy>
  <dcterms:modified xsi:type="dcterms:W3CDTF">2011-05-17T17:02:48Z</dcterms:modified>
  <cp:revision>151</cp:revision>
  <dc:subject/>
  <dc:title>PowerPoint Presentation</dc:title>
</cp:coreProperties>
</file>